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4555D-F4B2-45DC-B5B1-E2945C8C5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A78BF-0CD1-4C12-BDE5-7B480C283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14F9-06F0-440B-823F-1C1FA4D36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341BD-AB54-4165-8CAA-2F33AE063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71907-902D-4637-A1CD-9FF92BF2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635E-F525-4583-BE17-E4107C0C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2EAA1-0DD3-4657-B137-6A881BC0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943C-E2C2-4ADB-9A82-01F50B1B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93E3-97F5-4BF6-ACA4-3E3F51F7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DC23-67C0-4588-92FB-CC437822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81F9-E44D-4E0F-8A5F-8F91FCD42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E44FE-B8A2-47AC-9605-80CB0B373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92BBCFC8-D75A-4E6D-893C-23B852170E5E}"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DF320FA-F9D7-4FE9-94E9-9A7ABEF05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AAFF28-45E4-48B4-9CEA-B1C22FE6B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6F977958-29E5-4BBC-84E0-6E73F41512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15263C-C4A9-421F-88A3-BDBAAAFB09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BCA7AF-D6E6-498A-8EB7-CB0EC4EE8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294EC1B3-7310-4690-9FBF-304F9C864F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E210D9-5CC0-4C07-BFC0-071E8BCE5E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58DC3331-3919-44E2-828D-9DD4F29E68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03DA1BDB-3F62-4866-8C2F-91D197527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B3586F-7C88-4940-93A4-4384F5DCEF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D867AF0F-F634-4356-AE99-A567F8E482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9501B55E-673C-4A77-9CC8-A1A5AE826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D67B65-ADA5-43E0-819C-0091A4383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460780-DE95-4529-84FD-1B7988DD4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0CC427-3E0C-4776-9B66-EAD2B39ED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lg"/>
                  <a:tailEnd len="med" type="triangle" w="lg"/>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lg"/>
                  <a:tailEnd len="med" type="triangle" w="lg"/>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D361C69-E102-463A-8602-B6130D2D7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60CA2B-0D7A-4B84-80BC-8FF910F6F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F6A023-3D20-4AB6-8C67-7C22B03AA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EC04CF2B-7C27-4945-B388-0CAE918B6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1E2881-73FD-4044-ADE6-3FC9F623CE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2F1A1717-9A6F-45AC-88A4-1FD7BE2FE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88D34A-77EA-46BC-891C-B44533D3C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C092D949-E148-40D4-8445-C18A427DFB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9BAC81-1AB4-4C81-AA02-C64C0E4C99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7B3C19-38B0-4518-A581-6AB52FD38D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95AF0CFC-E113-445B-AC1F-936C81A451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AA1CEADE-3B4F-406E-9B6F-E851C1A73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D7491888-5092-4263-BDA6-84B52A047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42A5A9-9603-4A56-BC1F-1BF1700B3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